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0AB-5E03-484B-8003-470114FC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BAD-DC9A-48F6-B4E7-3586390B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323-F63C-4BE1-9C43-59F8809E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9F1-798C-4E62-A1ED-16D8165C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127-929B-4AEB-B7D2-0D6AA350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81B-2189-46A1-91E4-A38660E7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8BE-F162-40E2-86BC-D4DFCA13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235-8268-4715-90EC-3E877CB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F05-439B-4173-891E-4386929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809-CA54-4E63-AB02-C6D9E580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798-2C73-4D62-90A6-F8E9960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788-4753-4800-B9B3-038E144B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6749-2BDB-4109-A949-1A233792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M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 glar-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happ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379200">
            <a:off x="6562800" y="371160"/>
            <a:ext cx="68904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450000">
            <a:off x="5943600" y="3809520"/>
            <a:ext cx="2362320" cy="2330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1854360" cy="118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6035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-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group of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re-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02360" y="1981080"/>
            <a:ext cx="270036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1:49:19Z</dcterms:modified>
  <cp:revision>6</cp:revision>
  <dc:subject/>
  <dc:title>PowerPoint Presentation</dc:title>
</cp:coreProperties>
</file>